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513-646D-4464-9BCD-DE889291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2562-5D6D-40F6-8DC1-5665D9B6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F04-126A-45AD-B4B4-AF206F42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997-E323-4218-8F8E-91ABE996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4B7-C065-4C17-8B7F-96F4B681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72ED-8647-4A49-B1A2-03BCD21D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3A5D-98BD-48F7-BA31-7F91E0B3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D0B-2A10-4C33-9D08-F89A659D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78C-DD37-484A-9683-9EB3F71E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43C-13C9-4245-8DD7-21B27C13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56B-517B-4872-B161-87998BD9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FFE-35E1-44DF-A4EC-244B1113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1F63-E177-4C93-B458-71CBA7AF8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1125360"/>
            <a:ext cx="504216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What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re they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wearing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62120" y="752400"/>
            <a:ext cx="401184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Berto is wearing a casual shirt and white trousers.</a:t>
            </a:r>
            <a:br>
              <a:rPr sz="5400"/>
            </a:b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He wears glasses to work on TV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79640" y="4176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* Dr Mateo is wearing a blue suit, white shirt and a tie.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* His aunt is wearing a dress.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* The Argentinian barman is wearing a hat, dark t-shirt and and a black waistcoat.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* The policeman is wearing a uniform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46320" y="620640"/>
            <a:ext cx="4626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s-ES" sz="7200" spc="-1" strike="noStrike">
                <a:solidFill>
                  <a:srgbClr val="000000"/>
                </a:solidFill>
                <a:latin typeface="Arial"/>
              </a:rPr>
              <a:t>She’s wearing a </a:t>
            </a:r>
            <a:br>
              <a:rPr sz="7200"/>
            </a:br>
            <a:r>
              <a:rPr b="1" lang="es-ES" sz="7200" spc="-1" strike="noStrike">
                <a:solidFill>
                  <a:srgbClr val="000000"/>
                </a:solidFill>
                <a:latin typeface="Arial"/>
              </a:rPr>
              <a:t>dress and high hill sanda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96920" y="333360"/>
            <a:ext cx="44308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He’s wearing </a:t>
            </a: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a pink jacket </a:t>
            </a: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a black t-shir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4160" y="0"/>
            <a:ext cx="48452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Angelina is wearing a black dress and Brad a beige jacket and a white shir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6920" y="923760"/>
            <a:ext cx="749016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* Rafa is wearing a grey jacket and trausers, a blue t-shirt and trainers.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* Marvelis is wearing jeans, a violet t-shirt and  violet boots.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* The headmaster is wearing a grey jacket and trausers, a white t-shirt and black shoes.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* Lola is  wearing black jeans, a black jersey and black platform shoes.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* He is wearing a jumper, tracksuit trousers and train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8:28:32Z</dcterms:created>
  <dc:creator>I.E.S. FEDERICO GARCIA LORCA</dc:creator>
  <dc:description/>
  <dc:language>en-US</dc:language>
  <cp:lastModifiedBy>I.E.S. FEDERICO GARCIA LORCA</cp:lastModifiedBy>
  <dcterms:modified xsi:type="dcterms:W3CDTF">2009-03-30T08:46:52Z</dcterms:modified>
  <cp:revision>2</cp:revision>
  <dc:subject/>
  <dc:title>Diapositiva 1</dc:title>
</cp:coreProperties>
</file>